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2.gif" ContentType="image/gif"/>
  <Override PartName="/ppt/media/image3.jpeg" ContentType="image/jpeg"/>
  <Override PartName="/ppt/media/image15.png" ContentType="image/png"/>
  <Override PartName="/ppt/media/image11.jpeg" ContentType="image/jpeg"/>
  <Override PartName="/ppt/media/image9.jpeg" ContentType="image/jpeg"/>
  <Override PartName="/ppt/media/image8.jpeg" ContentType="image/jpeg"/>
  <Override PartName="/ppt/media/image10.jpeg" ContentType="image/jpeg"/>
  <Override PartName="/ppt/media/image2.gif" ContentType="image/gif"/>
  <Override PartName="/ppt/media/image6.gif" ContentType="image/gif"/>
  <Override PartName="/ppt/media/image5.jpeg" ContentType="image/jpeg"/>
  <Override PartName="/ppt/media/image23.jpeg" ContentType="image/jpeg"/>
  <Override PartName="/ppt/media/image21.gif" ContentType="image/gif"/>
  <Override PartName="/ppt/media/image19.png" ContentType="image/png"/>
  <Override PartName="/ppt/media/image20.gif" ContentType="image/gif"/>
  <Override PartName="/ppt/media/image18.gif" ContentType="image/gif"/>
  <Override PartName="/ppt/media/image17.jpeg" ContentType="image/jpeg"/>
  <Override PartName="/ppt/media/image14.gif" ContentType="image/gif"/>
  <Override PartName="/ppt/media/image1.jpeg" ContentType="image/jpeg"/>
  <Override PartName="/ppt/media/image7.jpeg" ContentType="image/jpeg"/>
  <Override PartName="/ppt/media/image22.gif" ContentType="image/gif"/>
  <Override PartName="/ppt/media/image4.jpeg" ContentType="image/jpeg"/>
  <Override PartName="/ppt/media/image13.gif" ContentType="image/gif"/>
  <Override PartName="/ppt/media/image16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86C58-4A16-4D54-96FB-0E76ECD41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73EE7-03BA-4EC4-BB81-66899880B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E69BA-6520-4346-8F3C-854DE9811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1CB5F-65F6-4157-ABEC-7D7EC11E3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83D7C-03AF-463F-8D0E-434528C2B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CA9F8-389F-4790-BB00-AA2CBD06C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0A7A9-1021-49AA-8B79-C527CDED9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6E97B-17AB-480B-91ED-D914D869E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AC230-FF0F-433F-AFD7-49432CFEE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C1B3D-1112-4605-8A85-94795F755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1885D-E4C1-4C55-B3C2-943089A05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DEABA-872C-4018-98EC-36B24184A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E13E2-6CE2-421D-8C7E-E027F65B8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2A3C7-91CB-4910-B306-151836F2C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3D5B9-E6ED-4FA9-BE61-D4DDA57F1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51B67-AE7D-4B81-A059-F5A8CED0D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D6439-C6D3-40E2-AC2D-C77F8890A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63BD53-8259-4058-8722-542EAF6F7A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87E738-B1B5-405B-8E8A-0D416657C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0285A6-9F09-42EF-8788-1CA48482A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D22272-5359-40AD-87B8-6948CA83A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A70D7A-4DD3-4E3A-88DB-13F5EDD9A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DA1FC-4996-4976-8E93-BC080A60F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27247F-56AE-49BD-AD80-EEEC39742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920FF9-8EFF-4F31-BA6A-F2A45B289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773E24-0E01-40CB-BEE0-B9ACFC08F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58B1B8-1024-4422-841A-44644015D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911F4D-C0F5-427C-8371-7D86488A2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DAF310-AA3C-40EA-A169-8CAB85B35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6DBB51-A0D7-4159-A7AE-7F89E3C84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C9697D-CCAE-4FCC-B8D7-EA1DE24DD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5B6096-05F6-4F5B-9192-BE5ED2012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35FD6F-ECA1-494E-8F10-F15B0AF6A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C742C-3132-4917-A8D1-F502D0EC0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4B14BB-6665-484F-B63B-0F3E6F831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90BD57-7098-4C56-96CA-40C40D05F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A78F33-972B-401D-B574-703B70444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F7B4CF-2D93-4BCC-9013-07B746F4B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0561C2-93AE-4BAE-8600-A8C71E790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B4A9EA-3349-4AA6-8C34-96B98DE61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1DAECB-9E5E-4FBD-99DF-08588A537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3B14D0-3711-49FF-B259-F45F42448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183E7A-7542-40EE-933C-EEC00BD34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6A625-C6DE-46C2-AEA8-6AAC381BC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2A8A6-0AA3-4453-B3F1-AECE1951D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F7D21-6D6A-491C-B73F-3C26CD85F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8C2E5-C9F3-47E6-B60E-007379DF3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2E7B3-A8FD-41E2-8B1B-2594B7FFF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F04436D-1097-462F-85B0-515A3CBE4796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22160" y="4406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ru-RU" sz="4000" spc="-1" strike="noStrike" cap="all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22160" y="2906640"/>
            <a:ext cx="7772040" cy="149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8b8b8b"/>
                </a:solidFill>
                <a:latin typeface="Calibri"/>
              </a:rPr>
              <a:t>Образец текста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780585F-9450-451A-873B-014AAD04D54B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535040"/>
            <a:ext cx="4039920" cy="63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body"/>
          </p:nvPr>
        </p:nvSpPr>
        <p:spPr>
          <a:xfrm>
            <a:off x="457200" y="2174760"/>
            <a:ext cx="4039920" cy="395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4645080" y="1535040"/>
            <a:ext cx="4041360" cy="63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645080" y="2174760"/>
            <a:ext cx="4041360" cy="395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dt" idx="7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8"/>
          <p:cNvSpPr>
            <a:spLocks noGrp="1"/>
          </p:cNvSpPr>
          <p:nvPr>
            <p:ph type="sldNum" idx="9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F4E1C6F-0E34-4E8B-89AE-E4649DD00B2E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dt" idx="10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sldNum" idx="12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47F5371-5929-434C-AD63-93BFB7A2ECC5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19.png"/><Relationship Id="rId3" Type="http://schemas.openxmlformats.org/officeDocument/2006/relationships/image" Target="../media/image20.gif"/><Relationship Id="rId4" Type="http://schemas.openxmlformats.org/officeDocument/2006/relationships/image" Target="../media/image21.gif"/><Relationship Id="rId5" Type="http://schemas.openxmlformats.org/officeDocument/2006/relationships/slideLayout" Target="../slideLayouts/slideLayout4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Содержимое 3" descr="image.gif"/>
          <p:cNvPicPr/>
          <p:nvPr/>
        </p:nvPicPr>
        <p:blipFill>
          <a:blip r:embed="rId1"/>
          <a:stretch/>
        </p:blipFill>
        <p:spPr>
          <a:xfrm>
            <a:off x="1785960" y="1643040"/>
            <a:ext cx="5880960" cy="286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800" spc="-1" strike="noStrike">
                <a:solidFill>
                  <a:srgbClr val="c00000"/>
                </a:solidFill>
                <a:latin typeface="Informal Roman"/>
              </a:rPr>
              <a:t>Guess a riddle</a:t>
            </a:r>
            <a:endParaRPr b="0" lang="ru-RU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4039920" cy="81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9000"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На холм подняться я решил. Холм по-английски это ….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Содержимое 6"/>
          <p:cNvSpPr/>
          <p:nvPr/>
        </p:nvSpPr>
        <p:spPr>
          <a:xfrm>
            <a:off x="457200" y="2500200"/>
            <a:ext cx="4039920" cy="316476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stretch/>
          </a:blipFill>
          <a:ln w="0">
            <a:solidFill>
              <a:srgbClr val="92d05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45080" y="1428840"/>
            <a:ext cx="4041360" cy="85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Трудился в поле. Все болит. 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А поле по-английски ….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Содержимое 7"/>
          <p:cNvSpPr/>
          <p:nvPr/>
        </p:nvSpPr>
        <p:spPr>
          <a:xfrm>
            <a:off x="4645080" y="2634840"/>
            <a:ext cx="4041360" cy="303084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stretch/>
          </a:blipFill>
          <a:ln w="0">
            <a:solidFill>
              <a:srgbClr val="eeece1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42960" y="428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000" spc="-1" strike="noStrike" cap="all">
                <a:solidFill>
                  <a:schemeClr val="accent3">
                    <a:lumMod val="50000"/>
                  </a:schemeClr>
                </a:solidFill>
                <a:latin typeface="Arial Black"/>
              </a:rPr>
              <a:t>Make up sentences.</a:t>
            </a: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722160" y="1928880"/>
            <a:ext cx="7772040" cy="3071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1. a lot of/ hills/ there are/ in the/ green/ country</a:t>
            </a: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2. in/ a long/ your/ there is/ town/ river</a:t>
            </a: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1000"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800" spc="-1" strike="noStrike">
                <a:solidFill>
                  <a:schemeClr val="accent4">
                    <a:lumMod val="75000"/>
                  </a:schemeClr>
                </a:solidFill>
                <a:latin typeface="Chiller"/>
              </a:rPr>
              <a:t>Divide the descriptions into 2 columns.</a:t>
            </a:r>
            <a:endParaRPr b="0" lang="ru-RU" sz="4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09" name="Содержимое 3"/>
          <p:cNvGraphicFramePr/>
          <p:nvPr/>
        </p:nvGraphicFramePr>
        <p:xfrm>
          <a:off x="457200" y="1600200"/>
          <a:ext cx="8229240" cy="197136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492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it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9360">
                      <a:solidFill>
                        <a:srgbClr val="7d5fa0"/>
                      </a:solidFill>
                    </a:lnL>
                    <a:lnR>
                      <a:noFill/>
                    </a:lnR>
                    <a:lnT w="9360">
                      <a:solidFill>
                        <a:srgbClr val="7d5fa0"/>
                      </a:solidFill>
                    </a:lnT>
                    <a:lnB>
                      <a:noFill/>
                    </a:lnB>
                    <a:solidFill>
                      <a:srgbClr val="8064a2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ountr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9360">
                      <a:solidFill>
                        <a:srgbClr val="7d5fa0"/>
                      </a:solidFill>
                    </a:lnR>
                    <a:lnT w="9360">
                      <a:solidFill>
                        <a:srgbClr val="7d5fa0"/>
                      </a:solidFill>
                    </a:lnT>
                    <a:lnB>
                      <a:noFill/>
                    </a:lnB>
                    <a:solidFill>
                      <a:srgbClr val="8064a2"/>
                    </a:solidFill>
                  </a:tcPr>
                </a:tc>
              </a:tr>
              <a:tr h="492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ru-RU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7d5fa0"/>
                      </a:solidFill>
                    </a:lnL>
                    <a:lnR>
                      <a:noFill/>
                    </a:lnR>
                    <a:lnT w="9360">
                      <a:solidFill>
                        <a:srgbClr val="7d5fa0"/>
                      </a:solidFill>
                    </a:lnT>
                    <a:lnB w="9360">
                      <a:solidFill>
                        <a:srgbClr val="7d5fa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ru-RU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9360">
                      <a:solidFill>
                        <a:srgbClr val="7d5fa0"/>
                      </a:solidFill>
                    </a:lnR>
                    <a:lnT w="9360">
                      <a:solidFill>
                        <a:srgbClr val="7d5fa0"/>
                      </a:solidFill>
                    </a:lnT>
                    <a:lnB w="9360">
                      <a:solidFill>
                        <a:srgbClr val="7d5fa0"/>
                      </a:solidFill>
                    </a:lnB>
                    <a:noFill/>
                  </a:tcPr>
                </a:tc>
              </a:tr>
              <a:tr h="492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ru-RU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7d5fa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ru-RU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9360">
                      <a:solidFill>
                        <a:srgbClr val="7d5fa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2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ru-RU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9360">
                      <a:solidFill>
                        <a:srgbClr val="7d5fa0"/>
                      </a:solidFill>
                    </a:lnL>
                    <a:lnR>
                      <a:noFill/>
                    </a:lnR>
                    <a:lnT w="9360">
                      <a:solidFill>
                        <a:srgbClr val="7d5fa0"/>
                      </a:solidFill>
                    </a:lnT>
                    <a:lnB w="9360">
                      <a:solidFill>
                        <a:srgbClr val="7d5fa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ru-RU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 w="9360">
                      <a:solidFill>
                        <a:srgbClr val="7d5fa0"/>
                      </a:solidFill>
                    </a:lnR>
                    <a:lnT w="9360">
                      <a:solidFill>
                        <a:srgbClr val="7d5fa0"/>
                      </a:solidFill>
                    </a:lnT>
                    <a:lnB w="9360">
                      <a:solidFill>
                        <a:srgbClr val="7d5fa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10" name="TextBox 4"/>
          <p:cNvSpPr/>
          <p:nvPr/>
        </p:nvSpPr>
        <p:spPr>
          <a:xfrm>
            <a:off x="714240" y="4357800"/>
            <a:ext cx="3857400" cy="3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Rectangle 1"/>
          <p:cNvSpPr/>
          <p:nvPr/>
        </p:nvSpPr>
        <p:spPr>
          <a:xfrm>
            <a:off x="428760" y="3790800"/>
            <a:ext cx="3857400" cy="10054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1. It is big. It is noisy. You can see a lot of cars, buses and trams in the stre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2"/>
          <p:cNvSpPr/>
          <p:nvPr/>
        </p:nvSpPr>
        <p:spPr>
          <a:xfrm>
            <a:off x="357120" y="4933800"/>
            <a:ext cx="4000320" cy="10054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2. It is quiet. It is peaceful. It is green. You can see a lot of apple trees the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3"/>
          <p:cNvSpPr/>
          <p:nvPr/>
        </p:nvSpPr>
        <p:spPr>
          <a:xfrm>
            <a:off x="4071960" y="3790800"/>
            <a:ext cx="4785840" cy="10054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3. The streets are wide and long. There are many people in the streets. They are always bus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Box 10"/>
          <p:cNvSpPr/>
          <p:nvPr/>
        </p:nvSpPr>
        <p:spPr>
          <a:xfrm>
            <a:off x="4714920" y="4786200"/>
            <a:ext cx="4214520" cy="3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Rectangle 4"/>
          <p:cNvSpPr/>
          <p:nvPr/>
        </p:nvSpPr>
        <p:spPr>
          <a:xfrm>
            <a:off x="4214880" y="4862520"/>
            <a:ext cx="4571640" cy="10054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4. There are a lot of buildings. The houses are big and tall. You can see many bridges.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5"/>
          <p:cNvSpPr/>
          <p:nvPr/>
        </p:nvSpPr>
        <p:spPr>
          <a:xfrm>
            <a:off x="2643120" y="5861160"/>
            <a:ext cx="4785840" cy="700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5. The streets are small. There are many animals in the stre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6 -4.07407E-006 L -2.77778E-006 -0.30463 E">
                                      <p:cBhvr>
                                        <p:cTn id="165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6493 -0.03032 L 0.39184 -0.46088 E">
                                      <p:cBhvr>
                                        <p:cTn id="169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2.59259E-006 L -0.42048 -0.18912 E">
                                      <p:cBhvr>
                                        <p:cTn id="173" dur="2000" fill="hold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path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6 2.59259E-006 L -0.45504 -0.24051 E">
                                      <p:cBhvr>
                                        <p:cTn id="177" dur="2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847 -0.03056 L 0.17344 -0.38473 E">
                                      <p:cBhvr>
                                        <p:cTn id="181" dur="2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  <p:attrName>ppt_y</p:attrName>
                                        </p:attrNameLst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42960" y="500040"/>
            <a:ext cx="7772040" cy="85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000" spc="-1" strike="noStrike" cap="all">
                <a:solidFill>
                  <a:schemeClr val="accent1">
                    <a:lumMod val="75000"/>
                  </a:schemeClr>
                </a:solidFill>
                <a:latin typeface="Monotype Corsiva"/>
              </a:rPr>
              <a:t>Mark the correct sentence.</a:t>
            </a: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714240" y="1214280"/>
            <a:ext cx="7772040" cy="5143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here are a lot of cow in the country. </a:t>
            </a: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here are a lot of cows in the country. </a:t>
            </a: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here is a lot of cows in the country. </a:t>
            </a: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There are a cow in the country.</a:t>
            </a: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714240" y="35712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400" spc="-1" strike="noStrike" cap="all">
                <a:solidFill>
                  <a:schemeClr val="accent1">
                    <a:lumMod val="50000"/>
                  </a:schemeClr>
                </a:solidFill>
                <a:latin typeface="Juice ITC"/>
              </a:rPr>
              <a:t>Complete the sentences.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722160" y="1571760"/>
            <a:ext cx="7772040" cy="3928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457200" indent="-45720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Font typeface="Arial"/>
              <a:buAutoNum type="arabicPeriod"/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here … a lot (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овец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)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… in the country. </a:t>
            </a:r>
            <a:endParaRPr b="0" lang="ru-RU" sz="36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Font typeface="Arial"/>
              <a:buAutoNum type="arabicPeriod"/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here … a lot of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(рыбы) …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in the river. </a:t>
            </a:r>
            <a:endParaRPr b="0" lang="ru-RU" sz="36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Font typeface="Arial"/>
              <a:buAutoNum type="arabicPeriod"/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here a lot of gardens in our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(больших городах)? </a:t>
            </a:r>
            <a:endParaRPr b="0" lang="ru-RU" sz="36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720"/>
              </a:spcBef>
              <a:buClr>
                <a:srgbClr val="000000"/>
              </a:buClr>
              <a:buFont typeface="Arial"/>
              <a:buAutoNum type="arabicPeriod"/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here a lot of shops in our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(больших городах)?</a:t>
            </a:r>
            <a:endParaRPr b="0" lang="ru-RU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714240" y="42876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000" spc="-1" strike="noStrike" cap="all">
                <a:solidFill>
                  <a:schemeClr val="accent2">
                    <a:lumMod val="75000"/>
                  </a:schemeClr>
                </a:solidFill>
                <a:latin typeface="Corbel"/>
              </a:rPr>
              <a:t>Mark the singular noun.</a:t>
            </a: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722160" y="2000160"/>
            <a:ext cx="7772040" cy="3500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spcBef>
                <a:spcPts val="879"/>
              </a:spcBef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ople 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879"/>
              </a:spcBef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an 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879"/>
              </a:spcBef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ns 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879"/>
              </a:spcBef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ish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00040" y="428760"/>
            <a:ext cx="7986240" cy="136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000" spc="-1" strike="noStrike" cap="all">
                <a:solidFill>
                  <a:schemeClr val="accent6">
                    <a:lumMod val="50000"/>
                  </a:schemeClr>
                </a:solidFill>
                <a:latin typeface="Chiller"/>
              </a:rPr>
              <a:t>Which word is spelt in the wrong way?</a:t>
            </a: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722160" y="1714320"/>
            <a:ext cx="7772040" cy="32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spcBef>
                <a:spcPts val="879"/>
              </a:spcBef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apitals 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879"/>
              </a:spcBef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ivers 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879"/>
              </a:spcBef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untrys 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879"/>
              </a:spcBef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arms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57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 am ….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 live ….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re is ….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re is not ….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y house is ….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 like it because ….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6" name="Picture 2" descr="E:\Английский язык\Фотографии\мультгерои\image28.gif"/>
          <p:cNvPicPr/>
          <p:nvPr/>
        </p:nvPicPr>
        <p:blipFill>
          <a:blip r:embed="rId1"/>
          <a:stretch/>
        </p:blipFill>
        <p:spPr>
          <a:xfrm>
            <a:off x="4643280" y="428760"/>
            <a:ext cx="2999880" cy="299988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3" descr="E:\Английский язык\Фотографии\мультгерои\нюша 2.png"/>
          <p:cNvPicPr/>
          <p:nvPr/>
        </p:nvPicPr>
        <p:blipFill>
          <a:blip r:embed="rId2"/>
          <a:stretch/>
        </p:blipFill>
        <p:spPr>
          <a:xfrm>
            <a:off x="4857840" y="2214720"/>
            <a:ext cx="3936240" cy="421452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4" descr="E:\Английский язык\Фотографии\мультгерои\матроскин.gif"/>
          <p:cNvPicPr/>
          <p:nvPr/>
        </p:nvPicPr>
        <p:blipFill>
          <a:blip r:embed="rId3"/>
          <a:stretch/>
        </p:blipFill>
        <p:spPr>
          <a:xfrm>
            <a:off x="4714920" y="928800"/>
            <a:ext cx="3214440" cy="321444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5" descr="E:\Английский язык\Фотографии\мультгерои\parrot kesha.gif"/>
          <p:cNvPicPr/>
          <p:nvPr/>
        </p:nvPicPr>
        <p:blipFill>
          <a:blip r:embed="rId4"/>
          <a:stretch/>
        </p:blipFill>
        <p:spPr>
          <a:xfrm>
            <a:off x="5000760" y="2286000"/>
            <a:ext cx="3423960" cy="34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2" dur="50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3" dur="50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4" dur="50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5" dur="50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Содержимое 3" descr="thank_you_011.gif"/>
          <p:cNvPicPr/>
          <p:nvPr/>
        </p:nvPicPr>
        <p:blipFill>
          <a:blip r:embed="rId1"/>
          <a:stretch/>
        </p:blipFill>
        <p:spPr>
          <a:xfrm>
            <a:off x="2143080" y="1285920"/>
            <a:ext cx="4971600" cy="39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Содержимое 3" descr="good bye 13.jpg"/>
          <p:cNvPicPr/>
          <p:nvPr/>
        </p:nvPicPr>
        <p:blipFill>
          <a:blip r:embed="rId1"/>
          <a:stretch/>
        </p:blipFill>
        <p:spPr>
          <a:xfrm>
            <a:off x="2143080" y="928800"/>
            <a:ext cx="4643280" cy="490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558ed5"/>
                </a:solidFill>
                <a:latin typeface="Cooper Black"/>
              </a:rPr>
              <a:t>Country </a:t>
            </a:r>
            <a:r>
              <a:rPr b="0" lang="en-US" sz="4400" spc="-1" strike="noStrike">
                <a:solidFill>
                  <a:srgbClr val="000000"/>
                </a:solidFill>
                <a:latin typeface="Cooper Black"/>
              </a:rPr>
              <a:t>and</a:t>
            </a:r>
            <a:r>
              <a:rPr b="0" lang="en-US" sz="4400" spc="-1" strike="noStrike">
                <a:solidFill>
                  <a:srgbClr val="558ed5"/>
                </a:solidFill>
                <a:latin typeface="Cooper Black"/>
              </a:rPr>
              <a:t> </a:t>
            </a:r>
            <a:r>
              <a:rPr b="0" lang="en-US" sz="4400" spc="-1" strike="noStrike">
                <a:solidFill>
                  <a:schemeClr val="accent5">
                    <a:lumMod val="50000"/>
                  </a:schemeClr>
                </a:solidFill>
                <a:latin typeface="Cooper Black"/>
              </a:rPr>
              <a:t>City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9" name="Содержимое 3" descr="city_country.jpg"/>
          <p:cNvPicPr/>
          <p:nvPr/>
        </p:nvPicPr>
        <p:blipFill>
          <a:blip r:embed="rId1"/>
          <a:stretch/>
        </p:blipFill>
        <p:spPr>
          <a:xfrm>
            <a:off x="1523880" y="1720080"/>
            <a:ext cx="6095520" cy="42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85880" y="50004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400" spc="-1" strike="noStrike" cap="all">
                <a:solidFill>
                  <a:srgbClr val="17375e"/>
                </a:solidFill>
                <a:latin typeface="Chiller"/>
              </a:rPr>
              <a:t>Choose the appropriate word.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722160" y="1071720"/>
            <a:ext cx="7772040" cy="457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100000"/>
              </a:lnSpc>
              <a:spcBef>
                <a:spcPts val="879"/>
              </a:spcBef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e houses in the city are very …. </a:t>
            </a:r>
            <a:r>
              <a:rPr b="0" lang="en-US" sz="4400" spc="-1" strike="noStrike">
                <a:solidFill>
                  <a:srgbClr val="002060"/>
                </a:solidFill>
                <a:latin typeface="Calibri"/>
              </a:rPr>
              <a:t>small 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  <a:p>
            <a:pPr marL="457200" indent="0" algn="ctr">
              <a:lnSpc>
                <a:spcPct val="100000"/>
              </a:lnSpc>
              <a:spcBef>
                <a:spcPts val="879"/>
              </a:spcBef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2060"/>
                </a:solidFill>
                <a:latin typeface="Calibri"/>
              </a:rPr>
              <a:t>angry 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  <a:p>
            <a:pPr marL="457200" indent="0" algn="ctr">
              <a:lnSpc>
                <a:spcPct val="100000"/>
              </a:lnSpc>
              <a:spcBef>
                <a:spcPts val="879"/>
              </a:spcBef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2060"/>
                </a:solidFill>
                <a:latin typeface="Calibri"/>
              </a:rPr>
              <a:t>windy 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  <a:p>
            <a:pPr marL="457200" indent="0" algn="ctr">
              <a:lnSpc>
                <a:spcPct val="100000"/>
              </a:lnSpc>
              <a:spcBef>
                <a:spcPts val="879"/>
              </a:spcBef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2060"/>
                </a:solidFill>
                <a:latin typeface="Calibri"/>
              </a:rPr>
              <a:t>tall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icture 2"/>
          <p:cNvSpPr/>
          <p:nvPr/>
        </p:nvSpPr>
        <p:spPr>
          <a:xfrm>
            <a:off x="428760" y="3429000"/>
            <a:ext cx="3428640" cy="21150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stretch/>
          </a:blipFill>
          <a:ln w="0">
            <a:solidFill>
              <a:srgbClr val="1f497d">
                <a:lumMod val="75000"/>
              </a:srgbClr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714240" y="500040"/>
            <a:ext cx="7772040" cy="136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000" spc="-1" strike="noStrike" cap="all">
                <a:solidFill>
                  <a:schemeClr val="accent4">
                    <a:lumMod val="75000"/>
                  </a:schemeClr>
                </a:solidFill>
                <a:latin typeface="Calibri"/>
              </a:rPr>
              <a:t>Which words are connected with </a:t>
            </a:r>
            <a:r>
              <a:rPr b="1" lang="en-US" sz="4400" spc="-1" strike="noStrike" cap="all">
                <a:solidFill>
                  <a:schemeClr val="accent1">
                    <a:lumMod val="75000"/>
                  </a:schemeClr>
                </a:solidFill>
                <a:latin typeface="Chiller"/>
              </a:rPr>
              <a:t>a city</a:t>
            </a:r>
            <a:r>
              <a:rPr b="1" lang="en-US" sz="4000" spc="-1" strike="noStrike" cap="all">
                <a:solidFill>
                  <a:schemeClr val="accent4">
                    <a:lumMod val="75000"/>
                  </a:schemeClr>
                </a:solidFill>
                <a:latin typeface="Calibri"/>
              </a:rPr>
              <a:t>?</a:t>
            </a: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722160" y="1714320"/>
            <a:ext cx="7772040" cy="4214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ridge 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w 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ear 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ig 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pital 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ar 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arm 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rest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icture 2"/>
          <p:cNvSpPr/>
          <p:nvPr/>
        </p:nvSpPr>
        <p:spPr>
          <a:xfrm>
            <a:off x="428760" y="3500280"/>
            <a:ext cx="3571560" cy="204156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stretch/>
          </a:blipFill>
          <a:ln w="0">
            <a:solidFill>
              <a:srgbClr val="eeece1">
                <a:lumMod val="25000"/>
              </a:srgbClr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70c0"/>
                </a:solidFill>
                <a:latin typeface="Cooper Black"/>
              </a:rPr>
              <a:t>Guess a riddle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00120"/>
            <a:ext cx="4039920" cy="85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5000"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осмотри как здесь красиво, 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Роща там, здесь речка …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Содержимое 6"/>
          <p:cNvSpPr/>
          <p:nvPr/>
        </p:nvSpPr>
        <p:spPr>
          <a:xfrm>
            <a:off x="457200" y="2635560"/>
            <a:ext cx="4039920" cy="302976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stretch/>
          </a:blipFill>
          <a:ln w="0">
            <a:solidFill>
              <a:srgbClr val="4f81bd">
                <a:lumMod val="75000"/>
              </a:srgbClr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45080" y="1285920"/>
            <a:ext cx="4041360" cy="88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Чтоб знали, сообщаю вам, 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Что ферма – это … 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Содержимое 7"/>
          <p:cNvSpPr/>
          <p:nvPr/>
        </p:nvSpPr>
        <p:spPr>
          <a:xfrm>
            <a:off x="4714920" y="2286000"/>
            <a:ext cx="3903480" cy="395100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stretch/>
          </a:blipFill>
          <a:ln w="0">
            <a:solidFill>
              <a:srgbClr val="8064a2">
                <a:lumMod val="75000"/>
              </a:srgbClr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7030a0"/>
                </a:solidFill>
                <a:latin typeface="Arial Rounded MT Bold"/>
              </a:rPr>
              <a:t>Guess a riddle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39920" cy="85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Церковь хочет всем помочь. 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Церковь по-английски ….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Содержимое 6"/>
          <p:cNvSpPr/>
          <p:nvPr/>
        </p:nvSpPr>
        <p:spPr>
          <a:xfrm>
            <a:off x="714240" y="2500200"/>
            <a:ext cx="3357360" cy="38736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stretch/>
          </a:blipFill>
          <a:ln w="0">
            <a:solidFill>
              <a:srgbClr val="1f497d">
                <a:lumMod val="60000"/>
                <a:lumOff val="40000"/>
              </a:srgbClr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45080" y="1428840"/>
            <a:ext cx="4041360" cy="85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ы наш город посетите! 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Город это будет ….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Содержимое 7"/>
          <p:cNvSpPr/>
          <p:nvPr/>
        </p:nvSpPr>
        <p:spPr>
          <a:xfrm>
            <a:off x="4572000" y="2714760"/>
            <a:ext cx="4041360" cy="303084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stretch/>
          </a:blipFill>
          <a:ln w="0">
            <a:solidFill>
              <a:srgbClr val="4f81bd">
                <a:lumMod val="40000"/>
                <a:lumOff val="60000"/>
              </a:srgbClr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4a452a"/>
                </a:solidFill>
                <a:latin typeface="Berlin Sans FB Demi"/>
              </a:rPr>
              <a:t>Guess a riddle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428840"/>
            <a:ext cx="4039920" cy="92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 деревню ехать очень рад. 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Деревня – это ….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8" name="Содержимое 6" descr="8ZX4D00Z.jpg"/>
          <p:cNvPicPr/>
          <p:nvPr/>
        </p:nvPicPr>
        <p:blipFill>
          <a:blip r:embed="rId1"/>
          <a:stretch/>
        </p:blipFill>
        <p:spPr>
          <a:xfrm>
            <a:off x="427320" y="2500200"/>
            <a:ext cx="4073040" cy="3278520"/>
          </a:xfrm>
          <a:prstGeom prst="rect">
            <a:avLst/>
          </a:prstGeom>
          <a:ln w="0">
            <a:noFill/>
          </a:ln>
        </p:spPr>
      </p:pic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45080" y="1357200"/>
            <a:ext cx="4041360" cy="99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6000"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Сирень в саду цветет. Прохлада. Сад по-английски – это …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Содержимое 7"/>
          <p:cNvSpPr/>
          <p:nvPr/>
        </p:nvSpPr>
        <p:spPr>
          <a:xfrm>
            <a:off x="4645080" y="2634840"/>
            <a:ext cx="4041360" cy="303084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stretch/>
          </a:blipFill>
          <a:ln w="0">
            <a:solidFill>
              <a:srgbClr val="00b05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chemeClr val="accent1">
                    <a:lumMod val="75000"/>
                  </a:schemeClr>
                </a:solidFill>
                <a:latin typeface="Cooper Black"/>
              </a:rPr>
              <a:t>Guess a riddle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4039920" cy="92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Трудный вам задам вопрос: 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«Как назвали лошадь?» - …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3" name="Содержимое 6" descr="905478307.gif"/>
          <p:cNvPicPr/>
          <p:nvPr/>
        </p:nvPicPr>
        <p:blipFill>
          <a:blip r:embed="rId1"/>
          <a:stretch/>
        </p:blipFill>
        <p:spPr>
          <a:xfrm>
            <a:off x="457200" y="2594520"/>
            <a:ext cx="4039920" cy="3111840"/>
          </a:xfrm>
          <a:prstGeom prst="rect">
            <a:avLst/>
          </a:prstGeom>
          <a:ln w="0">
            <a:noFill/>
          </a:ln>
        </p:spPr>
      </p:pic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45080" y="1428840"/>
            <a:ext cx="4041360" cy="85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6000"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Я свою Буренку называю: 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Матушка – коровушка ….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5" name="Содержимое 7" descr="1944.gif"/>
          <p:cNvPicPr/>
          <p:nvPr/>
        </p:nvPicPr>
        <p:blipFill>
          <a:blip r:embed="rId2"/>
          <a:stretch/>
        </p:blipFill>
        <p:spPr>
          <a:xfrm>
            <a:off x="5000760" y="2571840"/>
            <a:ext cx="3372120" cy="33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1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20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chemeClr val="accent2">
                    <a:lumMod val="75000"/>
                  </a:schemeClr>
                </a:solidFill>
                <a:latin typeface="Harlow Solid Italic"/>
              </a:rPr>
              <a:t>Guess a riddle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4039920" cy="85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66000"/>
          </a:bodyPr>
          <a:p>
            <a:pPr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tarSymbol"/>
              <a:buChar char="-"/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Что рисуешь доченька? 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StarSymbol"/>
              <a:buChar char="-"/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Мамочка, смотри! Я рисую дерево, по – английски …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8" name="Содержимое 6" descr="tree2.gif"/>
          <p:cNvPicPr/>
          <p:nvPr/>
        </p:nvPicPr>
        <p:blipFill>
          <a:blip r:embed="rId1"/>
          <a:stretch/>
        </p:blipFill>
        <p:spPr>
          <a:xfrm>
            <a:off x="642960" y="2286000"/>
            <a:ext cx="3492000" cy="395100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45080" y="1357200"/>
            <a:ext cx="4041360" cy="81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9000"/>
          </a:bodyPr>
          <a:p>
            <a:pPr indent="0">
              <a:lnSpc>
                <a:spcPct val="100000"/>
              </a:lnSpc>
              <a:spcBef>
                <a:spcPts val="479"/>
              </a:spcBef>
              <a:buNone/>
              <a:tabLst>
                <a:tab algn="l" pos="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Я у тропинки стадо пас. Тропинка по-английски ….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Содержимое 7"/>
          <p:cNvSpPr/>
          <p:nvPr/>
        </p:nvSpPr>
        <p:spPr>
          <a:xfrm>
            <a:off x="5214960" y="2286000"/>
            <a:ext cx="2642760" cy="395100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stretch/>
          </a:blipFill>
          <a:ln w="0">
            <a:solidFill>
              <a:srgbClr val="9bbb59">
                <a:lumMod val="50000"/>
              </a:srgbClr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20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</TotalTime>
  <Application>LibreOffice/7.4.7.2$Linux_X86_64 LibreOffice_project/40$Build-2</Application>
  <AppVersion>15.0000</AppVersion>
  <Words>457</Words>
  <Paragraphs>74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-</cp:lastModifiedBy>
  <dcterms:modified xsi:type="dcterms:W3CDTF">2013-04-29T21:30:40Z</dcterms:modified>
  <cp:revision>19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19</vt:r8>
  </property>
</Properties>
</file>